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72C-B0B9-44F3-80EB-3FF2AC75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33D-4C99-4C0A-B6CC-78C16F2B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B8C-479E-488F-82C4-CD4F47C0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77F-B85A-4E10-8073-74C66543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8D8-ABED-46DA-B5F5-98512C4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85-6D3D-4B03-B7D3-5F534CB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DFE-AC99-4DE6-84B4-59C57D57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248-F483-40D6-906D-4A8D20E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DFF-B4C0-497C-91C3-F132D73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C75-51AD-49C2-B24D-8F8C3F1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364-27BC-469D-ACF9-6E07901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572-C1B7-4472-A409-2F4280A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D63-DBD4-41F4-9B72-90A37E8B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M5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5120" y="457200"/>
            <a:ext cx="77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سـماوات              تنـشـد مجــد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ســحابة               تنشــر لطفــ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ـنـيرات               ترفـع ســبح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         مع كل المخل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5791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101218" descr=""/>
          <p:cNvPicPr/>
          <p:nvPr/>
        </p:nvPicPr>
        <p:blipFill>
          <a:blip r:embed="rId1"/>
          <a:stretch/>
        </p:blipFill>
        <p:spPr>
          <a:xfrm>
            <a:off x="0" y="-21924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08840" y="583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98400" y="5913360"/>
            <a:ext cx="116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80" y="838080"/>
            <a:ext cx="930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سهول والجبال             مع كل الرياحي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ن أعلى التـلال              مع همسة النس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نغمة الشـلال               وطهر الياسـ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مع زهـر البس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152" descr=""/>
          <p:cNvPicPr/>
          <p:nvPr/>
        </p:nvPicPr>
        <p:blipFill>
          <a:blip r:embed="rId1"/>
          <a:stretch/>
        </p:blipFill>
        <p:spPr>
          <a:xfrm>
            <a:off x="0" y="-29844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4816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59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276200" y="5715000"/>
            <a:ext cx="116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6560" y="2590920"/>
            <a:ext cx="1015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مياه البحــار  وامـتـداد المحي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خرير الأنهـ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نسكاب الينابـي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كـرم الأمطار والثـلج والجـ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ـلهـيـب نــا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7681351fPakcuKDUb_ph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كيــان  ينبـض بالحيـا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عصفور الجنائن  يغنـي للسـ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إنســانٍ يشـع بالرجـا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بصــرخة حنـان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بهاك في خلائق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9:04Z</dcterms:modified>
  <cp:revision>3</cp:revision>
  <dc:subject/>
  <dc:title>PowerPoint Presentation</dc:title>
</cp:coreProperties>
</file>